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ECAF5-E10F-441F-8045-7DCD18C33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AB774-B43C-44B5-A069-C1A8CB705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1F314-1986-414D-9DA2-ABA721076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7DFB4-5927-42AD-8555-8C6F8E918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7828C-3FBE-483A-890C-5DB920BB2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D72FC-3507-4C2A-8411-A3467A12E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9024A-BC56-40DE-A11E-0A23E5D40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AB4DF-6C34-4A10-91DD-6A96E3BE0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B6503-9A51-410F-BF1E-1A13B928F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1FE63-93C6-4BF0-9DAE-9B8E90147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19E53-FD07-4D93-86D0-093C1BF19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A6E06-6842-4DE0-A3F3-3B302BD67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13CCD35-88FC-450F-812E-D587FF271A0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ED2B966-37E9-4208-B838-B97F63AB1E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Green Economy and Why It Can Be Successfu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by Emmett Greenber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a “Green Economy”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that helps to protect the planet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an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results in social equality for people as wel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s jobs that contribute directly to reducing environmental risk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an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provide lower-skilled and lower-income workers with pathways out of pover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vironmentalist Van Jones called such jobs “green-collar jobs” in his recent best-selling book,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The Green Collar Economy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yths About the Green Econom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reening” of the economy inhibits wealth creation and employment opportuni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ly wealthy countries can afford to develop a green econom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newable energy sources a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re expensive than fossil fu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Straight Connector 3"/>
          <p:cNvSpPr/>
          <p:nvPr/>
        </p:nvSpPr>
        <p:spPr>
          <a:xfrm>
            <a:off x="6365880" y="5838840"/>
            <a:ext cx="2268360" cy="144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Straight Connector 4"/>
          <p:cNvSpPr/>
          <p:nvPr/>
        </p:nvSpPr>
        <p:spPr>
          <a:xfrm flipV="1">
            <a:off x="6365880" y="4222440"/>
            <a:ext cx="0" cy="160812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5"/>
          <p:cNvSpPr/>
          <p:nvPr/>
        </p:nvSpPr>
        <p:spPr>
          <a:xfrm>
            <a:off x="6778800" y="5227560"/>
            <a:ext cx="379080" cy="60336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6"/>
          <p:cNvSpPr/>
          <p:nvPr/>
        </p:nvSpPr>
        <p:spPr>
          <a:xfrm>
            <a:off x="7900920" y="4906800"/>
            <a:ext cx="412920" cy="93204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7"/>
          <p:cNvSpPr/>
          <p:nvPr/>
        </p:nvSpPr>
        <p:spPr>
          <a:xfrm>
            <a:off x="6421320" y="3914640"/>
            <a:ext cx="100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Fossil 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8"/>
          <p:cNvSpPr/>
          <p:nvPr/>
        </p:nvSpPr>
        <p:spPr>
          <a:xfrm>
            <a:off x="7551720" y="390204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Renewab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10"/>
          <p:cNvSpPr/>
          <p:nvPr/>
        </p:nvSpPr>
        <p:spPr>
          <a:xfrm>
            <a:off x="6819840" y="5972040"/>
            <a:ext cx="1559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[Note: Not drawn to scale]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20"/>
          <p:cNvSpPr/>
          <p:nvPr/>
        </p:nvSpPr>
        <p:spPr>
          <a:xfrm>
            <a:off x="5743440" y="4921200"/>
            <a:ext cx="62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o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bunking the Myth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fact, there ar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hidden cost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to conducting business as usual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traight Connector 3"/>
          <p:cNvSpPr/>
          <p:nvPr/>
        </p:nvSpPr>
        <p:spPr>
          <a:xfrm>
            <a:off x="6043680" y="5838840"/>
            <a:ext cx="2270160" cy="144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Straight Connector 4"/>
          <p:cNvSpPr/>
          <p:nvPr/>
        </p:nvSpPr>
        <p:spPr>
          <a:xfrm flipV="1">
            <a:off x="6043680" y="4222440"/>
            <a:ext cx="0" cy="160812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5"/>
          <p:cNvSpPr/>
          <p:nvPr/>
        </p:nvSpPr>
        <p:spPr>
          <a:xfrm>
            <a:off x="6458040" y="5227560"/>
            <a:ext cx="379440" cy="60336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6"/>
          <p:cNvSpPr/>
          <p:nvPr/>
        </p:nvSpPr>
        <p:spPr>
          <a:xfrm>
            <a:off x="7578720" y="4906800"/>
            <a:ext cx="412920" cy="93204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7"/>
          <p:cNvSpPr/>
          <p:nvPr/>
        </p:nvSpPr>
        <p:spPr>
          <a:xfrm>
            <a:off x="6099120" y="3914640"/>
            <a:ext cx="100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Fossil 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8"/>
          <p:cNvSpPr/>
          <p:nvPr/>
        </p:nvSpPr>
        <p:spPr>
          <a:xfrm>
            <a:off x="7229520" y="390204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Renewab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9"/>
          <p:cNvSpPr/>
          <p:nvPr/>
        </p:nvSpPr>
        <p:spPr>
          <a:xfrm>
            <a:off x="5423040" y="4280040"/>
            <a:ext cx="620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o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10"/>
          <p:cNvSpPr/>
          <p:nvPr/>
        </p:nvSpPr>
        <p:spPr>
          <a:xfrm>
            <a:off x="6499080" y="5972040"/>
            <a:ext cx="1559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[Note: Not drawn to scale]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12"/>
          <p:cNvSpPr/>
          <p:nvPr/>
        </p:nvSpPr>
        <p:spPr>
          <a:xfrm>
            <a:off x="6458040" y="4906800"/>
            <a:ext cx="379440" cy="308160"/>
          </a:xfrm>
          <a:prstGeom prst="rect">
            <a:avLst/>
          </a:prstGeom>
          <a:solidFill>
            <a:srgbClr val="ffffff"/>
          </a:solidFill>
          <a:ln w="9360">
            <a:solidFill>
              <a:srgbClr val="4a7ebb"/>
            </a:solidFill>
            <a:round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Straight Arrow Connector 14"/>
          <p:cNvCxnSpPr/>
          <p:nvPr/>
        </p:nvCxnSpPr>
        <p:spPr>
          <a:xfrm flipV="1">
            <a:off x="5425560" y="5095440"/>
            <a:ext cx="1032840" cy="37224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67" name="TextBox 16"/>
          <p:cNvSpPr/>
          <p:nvPr/>
        </p:nvSpPr>
        <p:spPr>
          <a:xfrm>
            <a:off x="4840200" y="5467320"/>
            <a:ext cx="85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d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17"/>
          <p:cNvSpPr/>
          <p:nvPr/>
        </p:nvSpPr>
        <p:spPr>
          <a:xfrm>
            <a:off x="6453360" y="4589640"/>
            <a:ext cx="379080" cy="307800"/>
          </a:xfrm>
          <a:prstGeom prst="rect">
            <a:avLst/>
          </a:prstGeom>
          <a:solidFill>
            <a:srgbClr val="ffffff"/>
          </a:solidFill>
          <a:ln w="9360">
            <a:solidFill>
              <a:srgbClr val="4a7ebb"/>
            </a:solidFill>
            <a:round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9" name="Straight Arrow Connector 18"/>
          <p:cNvCxnSpPr/>
          <p:nvPr/>
        </p:nvCxnSpPr>
        <p:spPr>
          <a:xfrm flipV="1">
            <a:off x="5423040" y="4777920"/>
            <a:ext cx="1031040" cy="37224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70" name="TextBox 19"/>
          <p:cNvSpPr/>
          <p:nvPr/>
        </p:nvSpPr>
        <p:spPr>
          <a:xfrm>
            <a:off x="4836960" y="5149800"/>
            <a:ext cx="96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od/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0"/>
          <p:cNvSpPr/>
          <p:nvPr/>
        </p:nvSpPr>
        <p:spPr>
          <a:xfrm>
            <a:off x="6458040" y="4280040"/>
            <a:ext cx="377640" cy="307800"/>
          </a:xfrm>
          <a:prstGeom prst="rect">
            <a:avLst/>
          </a:prstGeom>
          <a:solidFill>
            <a:srgbClr val="ffffff"/>
          </a:solidFill>
          <a:ln w="9360">
            <a:solidFill>
              <a:srgbClr val="4a7ebb"/>
            </a:solidFill>
            <a:round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Straight Arrow Connector 21"/>
          <p:cNvCxnSpPr/>
          <p:nvPr/>
        </p:nvCxnSpPr>
        <p:spPr>
          <a:xfrm flipV="1">
            <a:off x="5425560" y="4468320"/>
            <a:ext cx="1032840" cy="37224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73" name="TextBox 22"/>
          <p:cNvSpPr/>
          <p:nvPr/>
        </p:nvSpPr>
        <p:spPr>
          <a:xfrm>
            <a:off x="4836960" y="4840200"/>
            <a:ext cx="10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creatio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bunking the Myths I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432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nly wealthy countries can afford it”; “inhibits employment opportunities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ase Study: Brazi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azil recycling recovery levels matching or exceed those in industrialized countries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cycling in Brazil generates a value of almost US $2 billion and avoids 10 million tons of greenhouse gas emiss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60,000 recycling workers (“pickers”) have been organized into cooperatives or associa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heir income is more than two times higher than tha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349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 individual waste pickers,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Calibri"/>
              </a:rPr>
              <a:t>lifting families out of poverty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plight of the Brazilian pickers was depicted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the documentary movie “Waste Land”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3" descr=""/>
          <p:cNvPicPr/>
          <p:nvPr/>
        </p:nvPicPr>
        <p:blipFill>
          <a:blip r:embed="rId1"/>
          <a:stretch/>
        </p:blipFill>
        <p:spPr>
          <a:xfrm>
            <a:off x="6157800" y="4394160"/>
            <a:ext cx="2175120" cy="217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y a Green Economy is Economically Sound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483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invests in “natural capital,” meaning that it uses the natural assets of ecosystems  (e.g. forests, lakes, wetlands) as a source of capital (e.g., the ability to produce goods and service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stability of these natural assets is vital to public services such as recreation, food, and medici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3" descr="TempImage.tiff"/>
          <p:cNvPicPr/>
          <p:nvPr/>
        </p:nvPicPr>
        <p:blipFill>
          <a:blip r:embed="rId1"/>
          <a:stretch/>
        </p:blipFill>
        <p:spPr>
          <a:xfrm>
            <a:off x="4000680" y="4917960"/>
            <a:ext cx="4830480" cy="1687680"/>
          </a:xfrm>
          <a:prstGeom prst="rect">
            <a:avLst/>
          </a:prstGeom>
          <a:ln w="0">
            <a:noFill/>
          </a:ln>
        </p:spPr>
      </p:pic>
      <p:sp>
        <p:nvSpPr>
          <p:cNvPr id="80" name="Oval 4"/>
          <p:cNvSpPr/>
          <p:nvPr/>
        </p:nvSpPr>
        <p:spPr>
          <a:xfrm>
            <a:off x="4000680" y="4737240"/>
            <a:ext cx="1171440" cy="1033200"/>
          </a:xfrm>
          <a:prstGeom prst="ellipse">
            <a:avLst/>
          </a:prstGeom>
          <a:noFill/>
          <a:ln w="2844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Oval 5"/>
          <p:cNvSpPr/>
          <p:nvPr/>
        </p:nvSpPr>
        <p:spPr>
          <a:xfrm>
            <a:off x="4000680" y="5570640"/>
            <a:ext cx="1171440" cy="1035000"/>
          </a:xfrm>
          <a:prstGeom prst="ellipse">
            <a:avLst/>
          </a:prstGeom>
          <a:noFill/>
          <a:ln w="2844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y the Green Economy is Economically Sound I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urthermore, tourism in a green economy can support local economic growth and reduce poverty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cotourism currently enjoys a 20% annual growth rate, about six times the industry-wide rate of growt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ravel and tourism employ 8% of the global workforce, and the creation of jobs in the industry creates additional jobs in the related econom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us, the greening of the tourism sector will reduce the environmental threats to the industry, and as a result will increase local involvement and protect a valuable source of natural capit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amilton, Tyler. “Venture Capitalists make business case for going green.” </a:t>
            </a:r>
            <a:r>
              <a:rPr b="0" i="1" lang="en-US" sz="1500" spc="-1" strike="noStrike">
                <a:solidFill>
                  <a:srgbClr val="000000"/>
                </a:solidFill>
                <a:latin typeface="Calibri"/>
              </a:rPr>
              <a:t>Toronto Star, 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29 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cember 2009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Calibri"/>
              </a:rPr>
              <a:t>Towards a Green Economy 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(A Synthesis for Policy Makers) – United Nations Environment 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ogramme, 2011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he Elusive Green Economy”-</a:t>
            </a:r>
            <a:r>
              <a:rPr b="0" i="1" lang="en-US" sz="1500" spc="-1" strike="noStrike">
                <a:solidFill>
                  <a:srgbClr val="000000"/>
                </a:solidFill>
                <a:latin typeface="Calibri"/>
              </a:rPr>
              <a:t>The Atlantic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i="1" lang="en-US" sz="1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July/August 2009 http://www.theatlantic.com/magazine/archive/2009/07/the-elusive-green-economy/7554/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What is Green Economics?” http://www.greeneconomics.net/what2f.htm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Wikipedia- “</a:t>
            </a:r>
            <a:r>
              <a:rPr b="0" i="1" lang="en-US" sz="1500" spc="-1" strike="noStrike">
                <a:solidFill>
                  <a:srgbClr val="000000"/>
                </a:solidFill>
                <a:latin typeface="Calibri"/>
              </a:rPr>
              <a:t>The Green Collar Economy” http://en.wikipedia.org/wiki/The_Green_Collar_Economy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Green For All- Website http://www.greenforall.org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Wasteland”- Google Images http://www.wastelandmovie.com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 question is not whether a clean energy economy is our future, it’s where it will thrive.”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-Barack Obama, shortly after assuming offic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24T21:03:27Z</dcterms:created>
  <dc:creator>Emmett Greenberg</dc:creator>
  <dc:description/>
  <dc:language>en-US</dc:language>
  <cp:lastModifiedBy>Greengineers</cp:lastModifiedBy>
  <dcterms:modified xsi:type="dcterms:W3CDTF">2011-06-09T13:22:42Z</dcterms:modified>
  <cp:revision>34</cp:revision>
  <dc:subject/>
  <dc:title>Impact of the Green Collar Economy</dc:title>
</cp:coreProperties>
</file>